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359900" cy="93599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9D80-EA87-4AB2-BC87-937FC78C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842472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5411880"/>
            <a:ext cx="842472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D474-66C1-44DA-8316-13870854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54118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54118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5C5-892D-421D-A732-AB382D72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21844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21844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54118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54118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54118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6812-B706-438A-B8DB-5A54CF36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2184480"/>
            <a:ext cx="8424720" cy="61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48B6-AFAD-4590-84B3-7C7300ED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842472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2949-4F09-453F-A568-8134DCCF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A900-EAF9-4D00-A2B7-E464824C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EDF1-B84D-42D0-A143-25C811C4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374760"/>
            <a:ext cx="8424720" cy="72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94A3-811C-4AC0-B981-D6C25A8D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54118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79FB-FC75-46EB-B27C-919D0279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54118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016F-71C6-4C18-B14B-6C83C8AC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5411880"/>
            <a:ext cx="842472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69B4-CEBE-420B-BA88-DBD41B0D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184480"/>
            <a:ext cx="842472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marL="399960" indent="-3999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33336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36680" indent="-266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71640" indent="-26676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406600" indent="-2667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406600" indent="-2667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406600" indent="-2667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8677440"/>
            <a:ext cx="2184480" cy="498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lstStyle>
            <a:lvl1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  <a:defRPr b="0" lang="ja-JP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ja-JP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8677440"/>
            <a:ext cx="2963880" cy="498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8677440"/>
            <a:ext cx="2184480" cy="498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lstStyle>
            <a:lvl1pPr indent="0" algn="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  <a:defRPr b="0" lang="ja-JP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fld id="{D9F31599-A14D-4074-BD5B-246DA81173CC}" type="slidenum">
              <a:rPr b="0" lang="ja-JP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Pictures\動物\animal_armadillo.png"/>
          <p:cNvPicPr/>
          <p:nvPr/>
        </p:nvPicPr>
        <p:blipFill>
          <a:blip r:embed="rId1"/>
          <a:stretch/>
        </p:blipFill>
        <p:spPr>
          <a:xfrm>
            <a:off x="81000" y="863640"/>
            <a:ext cx="9207360" cy="82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Pictures\動物\shoes_29.png"/>
          <p:cNvPicPr/>
          <p:nvPr/>
        </p:nvPicPr>
        <p:blipFill>
          <a:blip r:embed="rId1"/>
          <a:stretch/>
        </p:blipFill>
        <p:spPr>
          <a:xfrm>
            <a:off x="19080" y="792000"/>
            <a:ext cx="9456840" cy="785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Pictures\動物\shoes_32.png"/>
          <p:cNvPicPr/>
          <p:nvPr/>
        </p:nvPicPr>
        <p:blipFill>
          <a:blip r:embed="rId1"/>
          <a:stretch/>
        </p:blipFill>
        <p:spPr>
          <a:xfrm>
            <a:off x="154080" y="289080"/>
            <a:ext cx="9207360" cy="89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Pictures\動物\shoes_38.png"/>
          <p:cNvPicPr/>
          <p:nvPr/>
        </p:nvPicPr>
        <p:blipFill>
          <a:blip r:embed="rId1"/>
          <a:stretch/>
        </p:blipFill>
        <p:spPr>
          <a:xfrm>
            <a:off x="1297080" y="0"/>
            <a:ext cx="6624720" cy="94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Pictures\動物\shoes_41.png"/>
          <p:cNvPicPr/>
          <p:nvPr/>
        </p:nvPicPr>
        <p:blipFill>
          <a:blip r:embed="rId1"/>
          <a:stretch/>
        </p:blipFill>
        <p:spPr>
          <a:xfrm>
            <a:off x="1584360" y="73080"/>
            <a:ext cx="6337440" cy="920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Pictures\動物\shoes_44.png"/>
          <p:cNvPicPr/>
          <p:nvPr/>
        </p:nvPicPr>
        <p:blipFill>
          <a:blip r:embed="rId1"/>
          <a:stretch/>
        </p:blipFill>
        <p:spPr>
          <a:xfrm>
            <a:off x="69840" y="2008080"/>
            <a:ext cx="92916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Pictures\動物\animal_ashika_todo.png"/>
          <p:cNvPicPr/>
          <p:nvPr/>
        </p:nvPicPr>
        <p:blipFill>
          <a:blip r:embed="rId1"/>
          <a:stretch/>
        </p:blipFill>
        <p:spPr>
          <a:xfrm>
            <a:off x="136440" y="144360"/>
            <a:ext cx="9072720" cy="907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Pictures\動物\animal_kirin.png"/>
          <p:cNvPicPr/>
          <p:nvPr/>
        </p:nvPicPr>
        <p:blipFill>
          <a:blip r:embed="rId1"/>
          <a:stretch/>
        </p:blipFill>
        <p:spPr>
          <a:xfrm>
            <a:off x="1440000" y="92160"/>
            <a:ext cx="6481800" cy="91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Pictures\動物\animal_musasabi.png"/>
          <p:cNvPicPr/>
          <p:nvPr/>
        </p:nvPicPr>
        <p:blipFill>
          <a:blip r:embed="rId1"/>
          <a:stretch/>
        </p:blipFill>
        <p:spPr>
          <a:xfrm>
            <a:off x="360360" y="198360"/>
            <a:ext cx="8785080" cy="916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Pictures\動物\animal_pony.png"/>
          <p:cNvPicPr/>
          <p:nvPr/>
        </p:nvPicPr>
        <p:blipFill>
          <a:blip r:embed="rId1"/>
          <a:stretch/>
        </p:blipFill>
        <p:spPr>
          <a:xfrm>
            <a:off x="87480" y="120600"/>
            <a:ext cx="9175680" cy="91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Pictures\動物\animal_sai.png"/>
          <p:cNvPicPr/>
          <p:nvPr/>
        </p:nvPicPr>
        <p:blipFill>
          <a:blip r:embed="rId1"/>
          <a:stretch/>
        </p:blipFill>
        <p:spPr>
          <a:xfrm>
            <a:off x="33480" y="576360"/>
            <a:ext cx="9364680" cy="86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Pictures\動物\animal_taka.png"/>
          <p:cNvPicPr/>
          <p:nvPr/>
        </p:nvPicPr>
        <p:blipFill>
          <a:blip r:embed="rId1"/>
          <a:stretch/>
        </p:blipFill>
        <p:spPr>
          <a:xfrm>
            <a:off x="60480" y="431640"/>
            <a:ext cx="9300960" cy="861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Pictures\動物\shoes_06.png"/>
          <p:cNvPicPr/>
          <p:nvPr/>
        </p:nvPicPr>
        <p:blipFill>
          <a:blip r:embed="rId1"/>
          <a:stretch/>
        </p:blipFill>
        <p:spPr>
          <a:xfrm>
            <a:off x="792000" y="0"/>
            <a:ext cx="8115480" cy="939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Pictures\動物\shoes_25.png"/>
          <p:cNvPicPr/>
          <p:nvPr/>
        </p:nvPicPr>
        <p:blipFill>
          <a:blip r:embed="rId1"/>
          <a:stretch/>
        </p:blipFill>
        <p:spPr>
          <a:xfrm>
            <a:off x="2232000" y="81000"/>
            <a:ext cx="5153040" cy="928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0T08:15:10Z</dcterms:created>
  <dc:creator>京都市教育委員会</dc:creator>
  <dc:description/>
  <dc:language>en-US</dc:language>
  <cp:lastModifiedBy>京都市教育委員会</cp:lastModifiedBy>
  <dcterms:modified xsi:type="dcterms:W3CDTF">2018-03-09T04:59:47Z</dcterms:modified>
  <cp:revision>2</cp:revision>
  <dc:subject/>
  <dc:title>PowerPoint プレゼンテーション</dc:title>
</cp:coreProperties>
</file>