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359900" cy="9359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B3B-BB34-4761-BA0A-B4BA55422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B6F-F0B7-4D62-A10F-1AD432EB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414B-6155-4B9D-8E4E-270E89D8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21844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5411880"/>
            <a:ext cx="27126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D207-F074-45B9-9C4B-6A3757FD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8C4A-59E1-44F1-8D02-7D4DF18D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731-A602-424C-9461-85FE99D4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890-C95C-4385-889D-D0342704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594-E80B-4C9D-90C4-EDF5259E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374760"/>
            <a:ext cx="842472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9D5-547F-4271-B15F-B4A80D87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946-745F-4178-8F67-CD3C0635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54118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D8B-8B3D-4CEF-B0BC-88704686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2184480"/>
            <a:ext cx="411120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5411880"/>
            <a:ext cx="8424720" cy="294696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E0B-595F-4BC8-93AD-D96CC540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374760"/>
            <a:ext cx="8424720" cy="1560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184480"/>
            <a:ext cx="8424720" cy="617832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t">
            <a:normAutofit/>
          </a:bodyPr>
          <a:p>
            <a:pPr marL="399960" indent="-399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68320" indent="-3333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36680" indent="-2667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71640" indent="-26676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406600" indent="-2667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r>
              <a:rPr b="0" lang="ja-JP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8677440"/>
            <a:ext cx="29638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p>
            <a:pPr indent="0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8677440"/>
            <a:ext cx="2184480" cy="498240"/>
          </a:xfrm>
          <a:prstGeom prst="rect">
            <a:avLst/>
          </a:prstGeom>
          <a:noFill/>
          <a:ln w="0">
            <a:noFill/>
          </a:ln>
        </p:spPr>
        <p:txBody>
          <a:bodyPr lIns="106920" rIns="10692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  <a:defRPr b="0" lang="ja-JP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68480"/>
                <a:tab algn="l" pos="2136600"/>
                <a:tab algn="l" pos="3205080"/>
                <a:tab algn="l" pos="4273560"/>
                <a:tab algn="l" pos="5342040"/>
                <a:tab algn="l" pos="6410160"/>
                <a:tab algn="l" pos="7478640"/>
                <a:tab algn="l" pos="8547120"/>
                <a:tab algn="l" pos="9615600"/>
                <a:tab algn="l" pos="10683720"/>
              </a:tabLst>
            </a:pPr>
            <a:fld id="{DC76D08A-7823-4898-B67E-974944EA9E22}" type="slidenum">
              <a:rPr b="0" lang="ja-JP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Pictures\動物\animal_armadillo.png"/>
          <p:cNvPicPr/>
          <p:nvPr/>
        </p:nvPicPr>
        <p:blipFill>
          <a:blip r:embed="rId1"/>
          <a:stretch/>
        </p:blipFill>
        <p:spPr>
          <a:xfrm>
            <a:off x="81000" y="863640"/>
            <a:ext cx="9207360" cy="82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:\Pictures\動物\shoes_29.png"/>
          <p:cNvPicPr/>
          <p:nvPr/>
        </p:nvPicPr>
        <p:blipFill>
          <a:blip r:embed="rId1"/>
          <a:stretch/>
        </p:blipFill>
        <p:spPr>
          <a:xfrm>
            <a:off x="19080" y="792000"/>
            <a:ext cx="9456840" cy="785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:\Pictures\動物\shoes_32.png"/>
          <p:cNvPicPr/>
          <p:nvPr/>
        </p:nvPicPr>
        <p:blipFill>
          <a:blip r:embed="rId1"/>
          <a:stretch/>
        </p:blipFill>
        <p:spPr>
          <a:xfrm>
            <a:off x="154080" y="289080"/>
            <a:ext cx="9207360" cy="89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Pictures\動物\shoes_38.png"/>
          <p:cNvPicPr/>
          <p:nvPr/>
        </p:nvPicPr>
        <p:blipFill>
          <a:blip r:embed="rId1"/>
          <a:stretch/>
        </p:blipFill>
        <p:spPr>
          <a:xfrm>
            <a:off x="1297080" y="0"/>
            <a:ext cx="6624720" cy="94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Pictures\動物\shoes_41.png"/>
          <p:cNvPicPr/>
          <p:nvPr/>
        </p:nvPicPr>
        <p:blipFill>
          <a:blip r:embed="rId1"/>
          <a:stretch/>
        </p:blipFill>
        <p:spPr>
          <a:xfrm>
            <a:off x="1584360" y="73080"/>
            <a:ext cx="6337440" cy="920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Pictures\動物\shoes_44.png"/>
          <p:cNvPicPr/>
          <p:nvPr/>
        </p:nvPicPr>
        <p:blipFill>
          <a:blip r:embed="rId1"/>
          <a:stretch/>
        </p:blipFill>
        <p:spPr>
          <a:xfrm>
            <a:off x="69840" y="2008080"/>
            <a:ext cx="92916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Pictures\動物\animal_ashika_todo.png"/>
          <p:cNvPicPr/>
          <p:nvPr/>
        </p:nvPicPr>
        <p:blipFill>
          <a:blip r:embed="rId1"/>
          <a:stretch/>
        </p:blipFill>
        <p:spPr>
          <a:xfrm>
            <a:off x="136440" y="144360"/>
            <a:ext cx="907272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Pictures\動物\animal_kirin.png"/>
          <p:cNvPicPr/>
          <p:nvPr/>
        </p:nvPicPr>
        <p:blipFill>
          <a:blip r:embed="rId1"/>
          <a:stretch/>
        </p:blipFill>
        <p:spPr>
          <a:xfrm>
            <a:off x="1440000" y="92160"/>
            <a:ext cx="6481800" cy="91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Pictures\動物\animal_musasabi.png"/>
          <p:cNvPicPr/>
          <p:nvPr/>
        </p:nvPicPr>
        <p:blipFill>
          <a:blip r:embed="rId1"/>
          <a:stretch/>
        </p:blipFill>
        <p:spPr>
          <a:xfrm>
            <a:off x="360360" y="198360"/>
            <a:ext cx="8785080" cy="916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Pictures\動物\animal_pony.png"/>
          <p:cNvPicPr/>
          <p:nvPr/>
        </p:nvPicPr>
        <p:blipFill>
          <a:blip r:embed="rId1"/>
          <a:stretch/>
        </p:blipFill>
        <p:spPr>
          <a:xfrm>
            <a:off x="87480" y="120600"/>
            <a:ext cx="9175680" cy="91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D:\Pictures\動物\animal_sai.png"/>
          <p:cNvPicPr/>
          <p:nvPr/>
        </p:nvPicPr>
        <p:blipFill>
          <a:blip r:embed="rId1"/>
          <a:stretch/>
        </p:blipFill>
        <p:spPr>
          <a:xfrm>
            <a:off x="33480" y="576360"/>
            <a:ext cx="936468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Pictures\動物\animal_taka.png"/>
          <p:cNvPicPr/>
          <p:nvPr/>
        </p:nvPicPr>
        <p:blipFill>
          <a:blip r:embed="rId1"/>
          <a:stretch/>
        </p:blipFill>
        <p:spPr>
          <a:xfrm>
            <a:off x="60480" y="431640"/>
            <a:ext cx="930096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Pictures\動物\shoes_06.png"/>
          <p:cNvPicPr/>
          <p:nvPr/>
        </p:nvPicPr>
        <p:blipFill>
          <a:blip r:embed="rId1"/>
          <a:stretch/>
        </p:blipFill>
        <p:spPr>
          <a:xfrm>
            <a:off x="792000" y="0"/>
            <a:ext cx="8115480" cy="939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Pictures\動物\shoes_25.png"/>
          <p:cNvPicPr/>
          <p:nvPr/>
        </p:nvPicPr>
        <p:blipFill>
          <a:blip r:embed="rId1"/>
          <a:stretch/>
        </p:blipFill>
        <p:spPr>
          <a:xfrm>
            <a:off x="2232000" y="81000"/>
            <a:ext cx="5153040" cy="92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0T08:15:10Z</dcterms:created>
  <dc:creator>京都市教育委員会</dc:creator>
  <dc:description/>
  <dc:language>en-US</dc:language>
  <cp:lastModifiedBy>京都市教育委員会</cp:lastModifiedBy>
  <dcterms:modified xsi:type="dcterms:W3CDTF">2018-03-09T04:59:47Z</dcterms:modified>
  <cp:revision>2</cp:revision>
  <dc:subject/>
  <dc:title>PowerPoint プレゼンテーション</dc:title>
</cp:coreProperties>
</file>