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359900" cy="9359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FBE-9079-405C-AE32-ACE2F542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423-ABAC-4EBA-8AA8-73A1C291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5E1-AF34-4005-B645-87719B4C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ADD-4D7A-47FE-A981-E8646E2E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AE1-33DA-436B-BEC5-30F605AB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555-0F84-4FAA-A2E6-34E29F1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09D-AE9F-417E-916A-BDBDFBB0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327-2549-41EF-ABF2-45094E4B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374760"/>
            <a:ext cx="842472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07D-295C-42E5-A68D-C6C8BA86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D50-6DC0-4783-B45F-701A2DC7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35A-8BA7-4888-B216-CFFFF633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31A-5064-4318-997C-C03D1050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399960" indent="-399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3333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36680" indent="-266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71640" indent="-2667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8677440"/>
            <a:ext cx="29638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fld id="{2DB6C23B-E640-4950-AB55-AABAC858605D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Pictures\動物\animal_armadillo.png"/>
          <p:cNvPicPr/>
          <p:nvPr/>
        </p:nvPicPr>
        <p:blipFill>
          <a:blip r:embed="rId1"/>
          <a:stretch/>
        </p:blipFill>
        <p:spPr>
          <a:xfrm>
            <a:off x="81000" y="863640"/>
            <a:ext cx="9207360" cy="82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Pictures\動物\shoes_29.png"/>
          <p:cNvPicPr/>
          <p:nvPr/>
        </p:nvPicPr>
        <p:blipFill>
          <a:blip r:embed="rId1"/>
          <a:stretch/>
        </p:blipFill>
        <p:spPr>
          <a:xfrm>
            <a:off x="19080" y="792000"/>
            <a:ext cx="9456840" cy="78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Pictures\動物\shoes_32.png"/>
          <p:cNvPicPr/>
          <p:nvPr/>
        </p:nvPicPr>
        <p:blipFill>
          <a:blip r:embed="rId1"/>
          <a:stretch/>
        </p:blipFill>
        <p:spPr>
          <a:xfrm>
            <a:off x="154080" y="289080"/>
            <a:ext cx="920736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Pictures\動物\shoes_38.png"/>
          <p:cNvPicPr/>
          <p:nvPr/>
        </p:nvPicPr>
        <p:blipFill>
          <a:blip r:embed="rId1"/>
          <a:stretch/>
        </p:blipFill>
        <p:spPr>
          <a:xfrm>
            <a:off x="1297080" y="0"/>
            <a:ext cx="6624720" cy="94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Pictures\動物\shoes_41.png"/>
          <p:cNvPicPr/>
          <p:nvPr/>
        </p:nvPicPr>
        <p:blipFill>
          <a:blip r:embed="rId1"/>
          <a:stretch/>
        </p:blipFill>
        <p:spPr>
          <a:xfrm>
            <a:off x="1584360" y="73080"/>
            <a:ext cx="6337440" cy="92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Pictures\動物\shoes_44.png"/>
          <p:cNvPicPr/>
          <p:nvPr/>
        </p:nvPicPr>
        <p:blipFill>
          <a:blip r:embed="rId1"/>
          <a:stretch/>
        </p:blipFill>
        <p:spPr>
          <a:xfrm>
            <a:off x="69840" y="2008080"/>
            <a:ext cx="929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Pictures\動物\animal_ashika_todo.png"/>
          <p:cNvPicPr/>
          <p:nvPr/>
        </p:nvPicPr>
        <p:blipFill>
          <a:blip r:embed="rId1"/>
          <a:stretch/>
        </p:blipFill>
        <p:spPr>
          <a:xfrm>
            <a:off x="136440" y="144360"/>
            <a:ext cx="907272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Pictures\動物\animal_kirin.png"/>
          <p:cNvPicPr/>
          <p:nvPr/>
        </p:nvPicPr>
        <p:blipFill>
          <a:blip r:embed="rId1"/>
          <a:stretch/>
        </p:blipFill>
        <p:spPr>
          <a:xfrm>
            <a:off x="1440000" y="92160"/>
            <a:ext cx="6481800" cy="91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ictures\動物\animal_musasabi.png"/>
          <p:cNvPicPr/>
          <p:nvPr/>
        </p:nvPicPr>
        <p:blipFill>
          <a:blip r:embed="rId1"/>
          <a:stretch/>
        </p:blipFill>
        <p:spPr>
          <a:xfrm>
            <a:off x="360360" y="198360"/>
            <a:ext cx="8785080" cy="916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Pictures\動物\animal_pony.png"/>
          <p:cNvPicPr/>
          <p:nvPr/>
        </p:nvPicPr>
        <p:blipFill>
          <a:blip r:embed="rId1"/>
          <a:stretch/>
        </p:blipFill>
        <p:spPr>
          <a:xfrm>
            <a:off x="87480" y="120600"/>
            <a:ext cx="9175680" cy="91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Pictures\動物\animal_sai.png"/>
          <p:cNvPicPr/>
          <p:nvPr/>
        </p:nvPicPr>
        <p:blipFill>
          <a:blip r:embed="rId1"/>
          <a:stretch/>
        </p:blipFill>
        <p:spPr>
          <a:xfrm>
            <a:off x="33480" y="576360"/>
            <a:ext cx="936468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Pictures\動物\animal_taka.png"/>
          <p:cNvPicPr/>
          <p:nvPr/>
        </p:nvPicPr>
        <p:blipFill>
          <a:blip r:embed="rId1"/>
          <a:stretch/>
        </p:blipFill>
        <p:spPr>
          <a:xfrm>
            <a:off x="60480" y="431640"/>
            <a:ext cx="9300960" cy="86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Pictures\動物\shoes_06.png"/>
          <p:cNvPicPr/>
          <p:nvPr/>
        </p:nvPicPr>
        <p:blipFill>
          <a:blip r:embed="rId1"/>
          <a:stretch/>
        </p:blipFill>
        <p:spPr>
          <a:xfrm>
            <a:off x="792000" y="0"/>
            <a:ext cx="8115480" cy="939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Pictures\動物\shoes_25.png"/>
          <p:cNvPicPr/>
          <p:nvPr/>
        </p:nvPicPr>
        <p:blipFill>
          <a:blip r:embed="rId1"/>
          <a:stretch/>
        </p:blipFill>
        <p:spPr>
          <a:xfrm>
            <a:off x="2232000" y="81000"/>
            <a:ext cx="5153040" cy="92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08:15:10Z</dcterms:created>
  <dc:creator>京都市教育委員会</dc:creator>
  <dc:description/>
  <dc:language>en-US</dc:language>
  <cp:lastModifiedBy>京都市教育委員会</cp:lastModifiedBy>
  <dcterms:modified xsi:type="dcterms:W3CDTF">2018-03-09T04:59:47Z</dcterms:modified>
  <cp:revision>2</cp:revision>
  <dc:subject/>
  <dc:title>PowerPoint プレゼンテーション</dc:title>
</cp:coreProperties>
</file>